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jpeg" ContentType="image/jpe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7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805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7A71-C192-4B78-96B9-569B9039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9040" y="373932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747-10DF-4C5F-A8C7-2AAB85B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760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7C6-C2E2-442F-9BFE-8C36777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120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300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904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120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300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516-325C-4EED-8ABC-D5A576F1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470-7EB5-4389-BDF1-EF7A6D09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235E-9CF5-4A62-8919-B3EB27E0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A17E-74B7-4982-90DD-8E22B64F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B76-E9DE-4FA7-A6EF-A457D9D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9D7-55D7-484A-B4B2-1F2C953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9040" y="151920"/>
            <a:ext cx="6896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2F2-6572-478B-887D-711219A8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39EF-3ABF-4F31-A003-9BA92C3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60E-7401-4EF6-B182-08E18DC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760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5FA8-DC5A-41AE-AC7A-5B9C4DA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C1D8-BCED-4234-A78C-CEB7395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9040" y="373932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479E-B3B7-4602-8FB1-F425555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760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681-61FB-4E63-A130-5851FA48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0120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13000" y="182880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904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0120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13000" y="3739320"/>
            <a:ext cx="248724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B955-6858-4474-BCF9-7B5F6362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721-69E2-4E1C-8E3F-5FCCCDB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DA6-6BD0-4B68-A394-CE5840BD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8E6-7293-4A58-B713-93D122C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151920"/>
            <a:ext cx="6896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4BA-7C55-4B4B-B484-7F601561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3DE-AD89-495D-9D1B-3EFEF0C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7600" y="373932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454-C211-46BE-8656-73CE1BD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904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600" y="1828800"/>
            <a:ext cx="37695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9040" y="3739320"/>
            <a:ext cx="7724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93A-CF94-4BFA-B965-F7E8137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809120" y="-14400"/>
            <a:ext cx="116496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628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9760" y="6248520"/>
            <a:ext cx="290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43520" y="6248520"/>
            <a:ext cx="191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F1D7-BF47-4FD1-887C-94A726AF28C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94800" y="23400"/>
            <a:ext cx="116820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61680" y="191520"/>
            <a:ext cx="102852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组合 1033"/>
          <p:cNvGrpSpPr/>
          <p:nvPr/>
        </p:nvGrpSpPr>
        <p:grpSpPr>
          <a:xfrm>
            <a:off x="7920" y="5540400"/>
            <a:ext cx="1791360" cy="1246320"/>
            <a:chOff x="7920" y="5540400"/>
            <a:chExt cx="179136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3628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9360" y="5686560"/>
              <a:ext cx="11304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628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5560" y="6045120"/>
              <a:ext cx="8370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3280" y="5607000"/>
              <a:ext cx="21492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22040" y="6608880"/>
              <a:ext cx="12096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803160" y="5726160"/>
              <a:ext cx="30780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4880" y="5699160"/>
              <a:ext cx="58032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2960" y="5862600"/>
              <a:ext cx="24876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组合 1043"/>
            <p:cNvGrpSpPr/>
            <p:nvPr/>
          </p:nvGrpSpPr>
          <p:grpSpPr>
            <a:xfrm>
              <a:off x="7920" y="5540400"/>
              <a:ext cx="1791360" cy="1238400"/>
              <a:chOff x="7920" y="5540400"/>
              <a:chExt cx="1791360" cy="1238400"/>
            </a:xfrm>
          </p:grpSpPr>
          <p:grpSp>
            <p:nvGrpSpPr>
              <p:cNvPr id="19" name="组合 1044"/>
              <p:cNvGrpSpPr/>
              <p:nvPr/>
            </p:nvGrpSpPr>
            <p:grpSpPr>
              <a:xfrm>
                <a:off x="795240" y="5654880"/>
                <a:ext cx="873360" cy="1123920"/>
                <a:chOff x="795240" y="5654880"/>
                <a:chExt cx="87336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5240" y="5694480"/>
                  <a:ext cx="24984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13400" y="6567840"/>
                  <a:ext cx="18324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60020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960" y="5924520"/>
                <a:ext cx="94860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4000" y="6168960"/>
                <a:ext cx="38880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900360" y="5842080"/>
                <a:ext cx="17028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组合 1051"/>
              <p:cNvGrpSpPr/>
              <p:nvPr/>
            </p:nvGrpSpPr>
            <p:grpSpPr>
              <a:xfrm>
                <a:off x="7920" y="5540400"/>
                <a:ext cx="1791360" cy="1076400"/>
                <a:chOff x="7920" y="5540400"/>
                <a:chExt cx="179136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5960" y="6426360"/>
                  <a:ext cx="11952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4172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480" y="5985000"/>
                  <a:ext cx="12744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5320" y="5540400"/>
                  <a:ext cx="5130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21240" y="5794560"/>
                  <a:ext cx="15264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2360" y="5762520"/>
                  <a:ext cx="31068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8680" y="5616720"/>
                  <a:ext cx="75060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42640" y="5724720"/>
                  <a:ext cx="39024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组合 1060"/>
          <p:cNvGrpSpPr/>
          <p:nvPr/>
        </p:nvGrpSpPr>
        <p:grpSpPr>
          <a:xfrm>
            <a:off x="8713800" y="2116080"/>
            <a:ext cx="388440" cy="4308480"/>
            <a:chOff x="8713800" y="2116080"/>
            <a:chExt cx="38844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713800" y="4159080"/>
              <a:ext cx="32760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74640" y="2116080"/>
              <a:ext cx="32760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组合 1063"/>
          <p:cNvGrpSpPr/>
          <p:nvPr/>
        </p:nvGrpSpPr>
        <p:grpSpPr>
          <a:xfrm>
            <a:off x="7198200" y="-86040"/>
            <a:ext cx="2438280" cy="2257920"/>
            <a:chOff x="7198200" y="-86040"/>
            <a:chExt cx="2438280" cy="2257920"/>
          </a:xfrm>
        </p:grpSpPr>
        <p:grpSp>
          <p:nvGrpSpPr>
            <p:cNvPr id="39" name="组合 1064"/>
            <p:cNvGrpSpPr/>
            <p:nvPr/>
          </p:nvGrpSpPr>
          <p:grpSpPr>
            <a:xfrm>
              <a:off x="7198200" y="-86040"/>
              <a:ext cx="2438280" cy="2257920"/>
              <a:chOff x="7198200" y="-86040"/>
              <a:chExt cx="2438280" cy="225792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53320" y="1722600"/>
                <a:ext cx="98280" cy="4586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组合 1066"/>
              <p:cNvGrpSpPr/>
              <p:nvPr/>
            </p:nvGrpSpPr>
            <p:grpSpPr>
              <a:xfrm>
                <a:off x="7198200" y="-86040"/>
                <a:ext cx="2438280" cy="2257920"/>
                <a:chOff x="7198200" y="-86040"/>
                <a:chExt cx="2438280" cy="225792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90524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33040" y="518760"/>
                  <a:ext cx="429840" cy="69768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29560" y="280440"/>
                  <a:ext cx="807480" cy="14302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811280" y="-27000"/>
                  <a:ext cx="1211760" cy="21405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29760" y="1421280"/>
                  <a:ext cx="270360" cy="1940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59560" y="1275480"/>
                  <a:ext cx="289080" cy="22932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35480" y="326880"/>
                  <a:ext cx="289080" cy="2340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73920" y="213480"/>
                  <a:ext cx="286200" cy="2199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直接连接符 1075"/>
            <p:cNvSpPr/>
            <p:nvPr/>
          </p:nvSpPr>
          <p:spPr>
            <a:xfrm>
              <a:off x="776124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93124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组合 2055"/>
          <p:cNvGrpSpPr/>
          <p:nvPr/>
        </p:nvGrpSpPr>
        <p:grpSpPr>
          <a:xfrm>
            <a:off x="196920" y="235080"/>
            <a:ext cx="3801240" cy="1778040"/>
            <a:chOff x="196920" y="235080"/>
            <a:chExt cx="3801240" cy="1778040"/>
          </a:xfrm>
        </p:grpSpPr>
        <p:sp>
          <p:nvSpPr>
            <p:cNvPr id="89" name="未知"/>
            <p:cNvSpPr/>
            <p:nvPr/>
          </p:nvSpPr>
          <p:spPr>
            <a:xfrm>
              <a:off x="282600" y="281160"/>
              <a:ext cx="358488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5320" y="414360"/>
              <a:ext cx="357516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6000" y="546120"/>
              <a:ext cx="237060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2059"/>
            <p:cNvGrpSpPr/>
            <p:nvPr/>
          </p:nvGrpSpPr>
          <p:grpSpPr>
            <a:xfrm>
              <a:off x="196920" y="235080"/>
              <a:ext cx="3801240" cy="1716120"/>
              <a:chOff x="196920" y="235080"/>
              <a:chExt cx="380124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95000" y="1482840"/>
                <a:ext cx="33768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6920" y="235080"/>
                <a:ext cx="380124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6960" y="250920"/>
                <a:ext cx="268596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52320" y="398520"/>
                <a:ext cx="36144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8560" y="851040"/>
                <a:ext cx="110088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组合 2065"/>
          <p:cNvGrpSpPr/>
          <p:nvPr/>
        </p:nvGrpSpPr>
        <p:grpSpPr>
          <a:xfrm>
            <a:off x="7823520" y="4316400"/>
            <a:ext cx="986760" cy="1163880"/>
            <a:chOff x="7823520" y="4316400"/>
            <a:chExt cx="986760" cy="1163880"/>
          </a:xfrm>
        </p:grpSpPr>
        <p:sp>
          <p:nvSpPr>
            <p:cNvPr id="99" name="未知"/>
            <p:cNvSpPr/>
            <p:nvPr/>
          </p:nvSpPr>
          <p:spPr>
            <a:xfrm rot="7320000">
              <a:off x="7817040" y="4652280"/>
              <a:ext cx="998280" cy="465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99760" y="4635720"/>
              <a:ext cx="995400" cy="4611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57440" y="4611960"/>
              <a:ext cx="660240" cy="4212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组合 2069"/>
            <p:cNvGrpSpPr/>
            <p:nvPr/>
          </p:nvGrpSpPr>
          <p:grpSpPr>
            <a:xfrm>
              <a:off x="7823520" y="4316400"/>
              <a:ext cx="986760" cy="1163880"/>
              <a:chOff x="7823520" y="4316400"/>
              <a:chExt cx="986760" cy="116388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48800" y="5055480"/>
                <a:ext cx="93600" cy="982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87520" y="4647240"/>
                <a:ext cx="1058760" cy="501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75160" y="4755600"/>
                <a:ext cx="749160" cy="2836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45680" y="4548960"/>
                <a:ext cx="100080" cy="1900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80640" y="4749120"/>
                <a:ext cx="306360" cy="1677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5040" y="5054760"/>
            <a:ext cx="683388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92480" y="1930320"/>
            <a:ext cx="89244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8680" y="624852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37040" y="6248520"/>
            <a:ext cx="290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78640" y="6248520"/>
            <a:ext cx="19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BCFF-5321-4FE7-9B91-15EDBC95580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4097" descr="标题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4098"/>
          <p:cNvSpPr txBox="1"/>
          <p:nvPr/>
        </p:nvSpPr>
        <p:spPr>
          <a:xfrm>
            <a:off x="396720" y="765000"/>
            <a:ext cx="469908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>
                    <a:alpha val="68000"/>
                  </a:srgbClr>
                </a:solidFill>
                <a:latin typeface="宋体"/>
              </a:rPr>
              <a:t>开学啦！</a:t>
            </a:r>
            <a:endParaRPr b="1" lang="en-US" sz="1800" spc="-1" strike="noStrike">
              <a:ln w="0">
                <a:noFill/>
              </a:ln>
              <a:solidFill>
                <a:srgbClr val="ff0000">
                  <a:alpha val="68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53" name="文本框 4099"/>
          <p:cNvSpPr/>
          <p:nvPr/>
        </p:nvSpPr>
        <p:spPr>
          <a:xfrm>
            <a:off x="1482840" y="4221000"/>
            <a:ext cx="44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五年级（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）班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2018.3.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5000" y="4495680"/>
            <a:ext cx="8033040" cy="1981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STHeiti TC"/>
                <a:ea typeface="STHeiti TC"/>
              </a:rPr>
              <a:t>卫  生  篇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卫生很重要，不管是班级卫生还是个人卫生，那在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日常的学习生活中，我们该怎么保持卫生清洁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9040" y="151920"/>
            <a:ext cx="6896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9040" y="1828800"/>
            <a:ext cx="7724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楷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楷体"/>
              </a:rPr>
              <a:t>谈谈新学期打算，提出奋斗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6385" descr="标题6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矩形 16386"/>
          <p:cNvSpPr txBox="1"/>
          <p:nvPr/>
        </p:nvSpPr>
        <p:spPr>
          <a:xfrm>
            <a:off x="0" y="620640"/>
            <a:ext cx="466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华文中宋"/>
              </a:rPr>
              <a:t>关于有效的计划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80" name="文本框 16387"/>
          <p:cNvSpPr/>
          <p:nvPr/>
        </p:nvSpPr>
        <p:spPr>
          <a:xfrm>
            <a:off x="325440" y="1720800"/>
            <a:ext cx="8383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孙膑是春秋战国时期的著名军事家，他同齐国的将军田忌很要好。田忌经常同齐威王赛马，马分三等，在比赛时，总是以上马对上马，中马对中马，下马对下马。因为齐威王每一个等级的马都要比田忌的强，所以田忌屡战屡败。孙膑知道此事以后，对田忌说：“再同他比一次吧，我有办法使你得胜。”临场赛马那天，孙膑先以下马对齐威王的上马，再以上马对他的中马，最后以中马对他的下马。比赛结果，一败两胜，田忌赢了。同样的马匹由于调换了一下比赛程序，就得到了反败为胜的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这个故事生动地告诉我们：在实际学习中，我们要科学地调配学习计划，注意学习的结构比例，制定扬长避短行之有效的学习计划，从而整体上发挥出自己最好的学习水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7409" descr="深绿框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800" y="333360"/>
            <a:ext cx="8261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703dff"/>
                </a:solidFill>
                <a:latin typeface="Comic Sans MS"/>
              </a:rPr>
              <a:t>如何制定计划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8680" y="1677960"/>
            <a:ext cx="81010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Comic Sans MS"/>
              </a:rPr>
              <a:t>制定学习计划，要从四个方面下手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一、根据自己的身体状态，确定每天学习时间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二、总结考试，制定中、长期学习计划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三、根据自己学习上的漏洞，制定学习计划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703dff"/>
                </a:solidFill>
                <a:latin typeface="Comic Sans MS"/>
              </a:rPr>
              <a:t>四、从快速、准确、灵活性的方面，制定学习计划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图片 17412" descr="猫猫趴"/>
          <p:cNvPicPr/>
          <p:nvPr/>
        </p:nvPicPr>
        <p:blipFill>
          <a:blip r:embed="rId2"/>
          <a:stretch/>
        </p:blipFill>
        <p:spPr>
          <a:xfrm>
            <a:off x="5530680" y="189000"/>
            <a:ext cx="115596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8433" descr="标题7"/>
          <p:cNvPicPr/>
          <p:nvPr/>
        </p:nvPicPr>
        <p:blipFill>
          <a:blip r:embed="rId1"/>
          <a:stretch/>
        </p:blipFill>
        <p:spPr>
          <a:xfrm>
            <a:off x="0" y="1440"/>
            <a:ext cx="9178920" cy="6856560"/>
          </a:xfrm>
          <a:prstGeom prst="rect">
            <a:avLst/>
          </a:prstGeom>
          <a:ln w="0">
            <a:noFill/>
          </a:ln>
        </p:spPr>
      </p:pic>
      <p:pic>
        <p:nvPicPr>
          <p:cNvPr id="186" name="矩形 18434" descr=""/>
          <p:cNvPicPr/>
          <p:nvPr/>
        </p:nvPicPr>
        <p:blipFill>
          <a:blip r:embed="rId2"/>
          <a:stretch/>
        </p:blipFill>
        <p:spPr>
          <a:xfrm>
            <a:off x="2917800" y="682560"/>
            <a:ext cx="5610240" cy="28526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9457" descr="标题9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矩形 19458" descr=""/>
          <p:cNvPicPr/>
          <p:nvPr/>
        </p:nvPicPr>
        <p:blipFill>
          <a:blip r:embed="rId2"/>
          <a:stretch/>
        </p:blipFill>
        <p:spPr>
          <a:xfrm>
            <a:off x="474840" y="-723960"/>
            <a:ext cx="8218440" cy="4873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01"/>
          <p:cNvPicPr/>
          <p:nvPr/>
        </p:nvPicPr>
        <p:blipFill>
          <a:blip r:embed="rId1"/>
          <a:stretch/>
        </p:blipFill>
        <p:spPr>
          <a:xfrm>
            <a:off x="-303120" y="-225360"/>
            <a:ext cx="9788400" cy="7311960"/>
          </a:xfrm>
          <a:prstGeom prst="rect">
            <a:avLst/>
          </a:prstGeom>
          <a:ln w="0">
            <a:noFill/>
          </a:ln>
        </p:spPr>
      </p:pic>
      <p:pic>
        <p:nvPicPr>
          <p:cNvPr id="190" name="矩形 20482" descr=""/>
          <p:cNvPicPr/>
          <p:nvPr/>
        </p:nvPicPr>
        <p:blipFill>
          <a:blip r:embed="rId2"/>
          <a:stretch/>
        </p:blipFill>
        <p:spPr>
          <a:xfrm>
            <a:off x="320760" y="2287440"/>
            <a:ext cx="8901000" cy="3387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21505" descr="标题10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21506"/>
          <p:cNvSpPr txBox="1"/>
          <p:nvPr/>
        </p:nvSpPr>
        <p:spPr>
          <a:xfrm>
            <a:off x="469800" y="3141720"/>
            <a:ext cx="802332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勿将今日之事拖到明日 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 advTm="5000">
    <p:random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内容占位符 22529" descr="8d3k28cj"/>
          <p:cNvPicPr/>
          <p:nvPr/>
        </p:nvPicPr>
        <p:blipFill>
          <a:blip r:embed="rId1"/>
          <a:stretch/>
        </p:blipFill>
        <p:spPr>
          <a:xfrm>
            <a:off x="6642000" y="2852640"/>
            <a:ext cx="253692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22530"/>
          <p:cNvSpPr/>
          <p:nvPr/>
        </p:nvSpPr>
        <p:spPr>
          <a:xfrm>
            <a:off x="974880" y="907920"/>
            <a:ext cx="6723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在今后的日子里，我希望和同学们一起努力，每天都有小小的进步，相信自己会更加优秀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矩形 22531"/>
          <p:cNvSpPr txBox="1"/>
          <p:nvPr/>
        </p:nvSpPr>
        <p:spPr>
          <a:xfrm>
            <a:off x="2203560" y="3909960"/>
            <a:ext cx="4627440" cy="22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仿宋"/>
              </a:rPr>
              <a:t>谢谢大家！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6"/>
          <p:cNvSpPr/>
          <p:nvPr/>
        </p:nvSpPr>
        <p:spPr>
          <a:xfrm>
            <a:off x="5235480" y="642960"/>
            <a:ext cx="37292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图片 5122" descr="标题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矩形 5123"/>
          <p:cNvSpPr/>
          <p:nvPr/>
        </p:nvSpPr>
        <p:spPr>
          <a:xfrm>
            <a:off x="0" y="0"/>
            <a:ext cx="51688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</a:t>
            </a: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新学期寄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亲爱的同学们：新学期的航程又开始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       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宋体"/>
              </a:rPr>
              <a:t>新学期，新起点，新气象，愿同学们能信心百倍地投入到学习、生活中，老师将陪伴在你的左右，让我们去迎接挑战，去创造辉煌！加油！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3553" descr="标题19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矩形 23554" descr=""/>
          <p:cNvPicPr/>
          <p:nvPr/>
        </p:nvPicPr>
        <p:blipFill>
          <a:blip r:embed="rId2"/>
          <a:stretch/>
        </p:blipFill>
        <p:spPr>
          <a:xfrm>
            <a:off x="-1004760" y="830160"/>
            <a:ext cx="9245520" cy="4568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内容占位符 24577" descr="8d3k28cj"/>
          <p:cNvPicPr/>
          <p:nvPr/>
        </p:nvPicPr>
        <p:blipFill>
          <a:blip r:embed="rId1"/>
          <a:stretch/>
        </p:blipFill>
        <p:spPr>
          <a:xfrm>
            <a:off x="6642000" y="2852640"/>
            <a:ext cx="253692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矩形 24578"/>
          <p:cNvSpPr txBox="1"/>
          <p:nvPr/>
        </p:nvSpPr>
        <p:spPr>
          <a:xfrm>
            <a:off x="1409760" y="2133720"/>
            <a:ext cx="5349960" cy="22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仿宋"/>
              </a:rPr>
              <a:t>谢谢大家！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仿宋"/>
              <a:ea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145" descr="标题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6146"/>
          <p:cNvSpPr txBox="1"/>
          <p:nvPr/>
        </p:nvSpPr>
        <p:spPr>
          <a:xfrm>
            <a:off x="325440" y="2914560"/>
            <a:ext cx="8510760" cy="12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好的开始是成功的一半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1319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000000"/>
                </a:solidFill>
                <a:uFillTx/>
                <a:latin typeface="Comic Sans MS"/>
              </a:rPr>
              <a:t>班规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691920"/>
            <a:ext cx="86374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一、早读： 勤奋好学争分秒，贵在自觉效率高； 语数英语同重要，书声琅琅气氛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二、两操： 出操路队快静齐，动作规范做好操； 每天眼操做两次，持之以恒视力保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三、上课： 铃声一响教室静，专心听讲勤思考； 举手发言敢提问，尊敬师长听教导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四、课间： 课间时间不吵闹，文明礼貌要做到；出门靠右行，绝不追和跑；喝水有次序，排队有礼让。厕所使用要文明，大小便后必冲水；行为文明最重要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五、学习： 各门功课要学好，主动自觉最重要； 预习复习不能少，环环扣紧才生效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六、作业： 审清题意独立做，格式规范不抄袭； 书写整洁字端正，保质保量按时交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七、生活： 爱惜粮食要记牢，节约水电少浪费； 服从管理加自理，遵守纪律觉悟高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1" lang="zh-TW" sz="2400" spc="-1" strike="noStrike">
                <a:solidFill>
                  <a:srgbClr val="ff0000"/>
                </a:solidFill>
                <a:latin typeface="Comic Sans MS"/>
              </a:rPr>
              <a:t>八、目标： 班级规定牢记心，行为习惯常对照； 同学之间勤勉励，道德情操修养好。</a:t>
            </a:r>
            <a:r>
              <a:rPr b="0" lang="zh-TW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8193" descr="标题9"/>
          <p:cNvPicPr/>
          <p:nvPr/>
        </p:nvPicPr>
        <p:blipFill>
          <a:blip r:embed="rId1"/>
          <a:stretch/>
        </p:blipFill>
        <p:spPr>
          <a:xfrm>
            <a:off x="-1407960" y="0"/>
            <a:ext cx="10586880" cy="704700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8194" descr=""/>
          <p:cNvPicPr/>
          <p:nvPr/>
        </p:nvPicPr>
        <p:blipFill>
          <a:blip r:embed="rId2"/>
          <a:stretch/>
        </p:blipFill>
        <p:spPr>
          <a:xfrm>
            <a:off x="-1463760" y="-1544760"/>
            <a:ext cx="11423880" cy="8213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9217" descr="标题3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9218"/>
          <p:cNvSpPr/>
          <p:nvPr/>
        </p:nvSpPr>
        <p:spPr>
          <a:xfrm>
            <a:off x="325440" y="189000"/>
            <a:ext cx="8853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我   们   约   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一、班级荣誉高于一切，个人的成功需要一个优秀的集体，我们要齐心把我们的集体建设成为一个团结互助的大家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二、遵守课堂纪律，珍惜课堂的每一分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三、为自己的新学期做好学习计划、制定各科目标，力争上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四、严于律己，自尊自爱；业精于勤，持之以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五、心怀感恩，尊师敬老；与人为善，助人为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0241" descr="标题5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矩形 10242"/>
          <p:cNvSpPr txBox="1"/>
          <p:nvPr/>
        </p:nvSpPr>
        <p:spPr>
          <a:xfrm>
            <a:off x="2349360" y="260280"/>
            <a:ext cx="4048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关于遵守纪律</a:t>
            </a:r>
            <a:endParaRPr b="1" i="1" lang="en-US" sz="1800" spc="1" strike="noStrike">
              <a:ln w="9360">
                <a:solidFill>
                  <a:srgbClr val="80008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  <p:sp>
        <p:nvSpPr>
          <p:cNvPr id="167" name="文本框 10243"/>
          <p:cNvSpPr/>
          <p:nvPr/>
        </p:nvSpPr>
        <p:spPr>
          <a:xfrm>
            <a:off x="181080" y="923760"/>
            <a:ext cx="87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西方有一种很流行的说法：在天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人们住英国的城堡，开德国的汽车，吃中国的饭菜，享受美国的民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而这一切都是在瑞士人的管理之下，因为瑞士人擅长管理。瑞士的条条框框很多：如每天晚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点以后不能大声喧哗；星期天不能开割草机；垃圾要分门别类，并在规定的时间扔在规定的地方；即使是私人的树，也要经过政府专门机构的批准才可以砍。大到城市在哪里建工业区，小到每户人家的屋顶是什么颜色、窗户开多大，都要经过政府的批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一个瑞士人都从平凡的生活中体会到：恪守“规矩”实际上也是在维护着自己的“自由”。由此可见，任何“规矩”都不是单纯地为了限制谁的“自由”，而是为了维护每一个人的利益。学校的规矩也是这样，根本目的是为了保障每一位同学的“自由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纪律规范了我们的行为，同时也影响着我们今后的人生轨迹，没有规矩不能成方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5000" y="4495680"/>
            <a:ext cx="8033040" cy="1981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STHeiti TC"/>
                <a:ea typeface="STHeiti TC"/>
              </a:rPr>
              <a:t>安  全  篇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5486400"/>
            <a:ext cx="8261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主要强调五方面的安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对象 12290" descr=""/>
          <p:cNvPicPr/>
          <p:nvPr/>
        </p:nvPicPr>
        <p:blipFill>
          <a:blip r:embed="rId1"/>
          <a:stretch/>
        </p:blipFill>
        <p:spPr>
          <a:xfrm>
            <a:off x="765000" y="1600200"/>
            <a:ext cx="676296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12291"/>
          <p:cNvSpPr/>
          <p:nvPr/>
        </p:nvSpPr>
        <p:spPr>
          <a:xfrm>
            <a:off x="3578400" y="2349360"/>
            <a:ext cx="310500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1   </a:t>
            </a:r>
            <a:r>
              <a:rPr b="0" lang="zh-CN" sz="2800" spc="-1" strike="noStrike">
                <a:solidFill>
                  <a:srgbClr val="ff3300"/>
                </a:solidFill>
                <a:latin typeface="STHeiti TC"/>
                <a:ea typeface="STHeiti TC"/>
              </a:rPr>
              <a:t>交 通 </a:t>
            </a: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安 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2   </a:t>
            </a:r>
            <a:r>
              <a:rPr b="0" lang="zh-CN" sz="2800" spc="-1" strike="noStrike">
                <a:solidFill>
                  <a:srgbClr val="ff3300"/>
                </a:solidFill>
                <a:latin typeface="STHeiti TC"/>
                <a:ea typeface="STHeiti TC"/>
              </a:rPr>
              <a:t>乘 车 </a:t>
            </a: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安 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3   </a:t>
            </a:r>
            <a:r>
              <a:rPr b="0" lang="zh-CN" sz="2800" spc="-1" strike="noStrike">
                <a:solidFill>
                  <a:srgbClr val="ff3300"/>
                </a:solidFill>
                <a:latin typeface="STHeiti TC"/>
                <a:ea typeface="STHeiti TC"/>
              </a:rPr>
              <a:t>校 园 </a:t>
            </a: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安 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4   </a:t>
            </a:r>
            <a:r>
              <a:rPr b="0" lang="zh-CN" sz="2800" spc="-1" strike="noStrike">
                <a:solidFill>
                  <a:srgbClr val="ff3300"/>
                </a:solidFill>
                <a:latin typeface="STHeiti TC"/>
                <a:ea typeface="STHeiti TC"/>
              </a:rPr>
              <a:t>网 络 </a:t>
            </a: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安 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5   </a:t>
            </a:r>
            <a:r>
              <a:rPr b="0" lang="zh-CN" sz="2800" spc="-1" strike="noStrike">
                <a:solidFill>
                  <a:srgbClr val="ff3300"/>
                </a:solidFill>
                <a:latin typeface="STHeiti TC"/>
                <a:ea typeface="STHeiti TC"/>
              </a:rPr>
              <a:t>食 品 </a:t>
            </a:r>
            <a:r>
              <a:rPr b="0" lang="zh-CN" sz="2800" spc="-1" strike="noStrike">
                <a:solidFill>
                  <a:srgbClr val="703dff"/>
                </a:solidFill>
                <a:latin typeface="STHeiti TC"/>
                <a:ea typeface="STHeiti TC"/>
              </a:rPr>
              <a:t>安 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12292"/>
          <p:cNvSpPr/>
          <p:nvPr/>
        </p:nvSpPr>
        <p:spPr>
          <a:xfrm>
            <a:off x="228600" y="457200"/>
            <a:ext cx="71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Georgia"/>
                <a:ea typeface="STHeiti TC"/>
              </a:rPr>
              <a:t>生命赋予我们的是一个到世界上旅行的机会，</a:t>
            </a:r>
            <a:r>
              <a:rPr b="1" lang="zh-CN" sz="2000" spc="-1" strike="noStrike">
                <a:solidFill>
                  <a:srgbClr val="ff3300"/>
                </a:solidFill>
                <a:latin typeface="Georgia"/>
                <a:ea typeface="STHeiti TC"/>
              </a:rPr>
              <a:t>生命高于一切</a:t>
            </a:r>
            <a:r>
              <a:rPr b="1" lang="zh-CN" sz="2000" spc="-1" strike="noStrike">
                <a:solidFill>
                  <a:srgbClr val="703dff"/>
                </a:solidFill>
                <a:latin typeface="Georgia"/>
                <a:ea typeface="STHeiti TC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dff"/>
                </a:solidFill>
                <a:latin typeface="Georgia"/>
                <a:ea typeface="STHeiti TC"/>
              </a:rPr>
              <a:t>每一个人都应该要</a:t>
            </a:r>
            <a:r>
              <a:rPr b="1" lang="zh-CN" sz="2000" spc="-1" strike="noStrike">
                <a:solidFill>
                  <a:srgbClr val="ff3300"/>
                </a:solidFill>
                <a:latin typeface="Georgia"/>
                <a:ea typeface="STHeiti TC"/>
              </a:rPr>
              <a:t>珍惜生命</a:t>
            </a:r>
            <a:r>
              <a:rPr b="1" lang="zh-CN" sz="2000" spc="-1" strike="noStrike">
                <a:solidFill>
                  <a:srgbClr val="703dff"/>
                </a:solidFill>
                <a:latin typeface="Georgia"/>
                <a:ea typeface="STHeiti TC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1T02:12:54Z</dcterms:created>
  <dc:creator>user</dc:creator>
  <dc:description/>
  <dc:language>en-US</dc:language>
  <cp:lastModifiedBy>admin</cp:lastModifiedBy>
  <dcterms:modified xsi:type="dcterms:W3CDTF">2018-02-26T02:48:1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