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F2C-01B7-4797-9B69-9505E3FE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030-376D-4E7E-9797-956D149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F4B-50D9-40D8-B3DB-969CD6B4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2C7-80AA-4834-9060-58CA20FC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609A-0291-4111-B6EB-61F0D7E8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FA63-337B-4B33-9AEC-F850DB13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EA26-0CB1-4BE5-A388-6CD8299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761D-B246-4B4C-8D6F-3C4A4DD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C8C7-3C44-43E4-ACEF-7F276E82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29A-D935-4A41-8D45-9723CC8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7810-F8F8-4039-8193-3339DD6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19E-2C12-428B-BE1D-9F22228F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B87F-1446-42D5-9AE2-E471A48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F587-EE04-49AB-8C87-D95E841C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C1B2-DD25-4B8F-BF2C-69F89F93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CDE3-2CDE-4618-97C5-67F29E9E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38C2-DAD8-4FCA-92AE-335D662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EED-D073-4B2C-AF7A-D46BE3B7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6DB-8804-4579-B193-503F20D4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2D8-23F3-454A-87CC-0BAB1580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D16-70C3-47CE-9E40-38F1358D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B4E-8905-41F4-B4AC-C46FA1E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C4E-AA37-47B3-9767-DB54B106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2A8-8FD7-40B6-8813-66825BD6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4650-338E-4969-BE7B-FE2DFBFD508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D39F-2A38-46E7-9E0E-C44BF476C73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90360"/>
            <a:ext cx="820728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你</a:t>
            </a:r>
            <a:r>
              <a:rPr b="0" lang="zh-CN" sz="48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认</a:t>
            </a: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</a:t>
            </a:r>
            <a:r>
              <a:rPr b="0" lang="zh-CN" sz="4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班</a:t>
            </a:r>
            <a:r>
              <a:rPr b="0" lang="zh-CN" sz="4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的</a:t>
            </a:r>
            <a:r>
              <a:rPr b="0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男</a:t>
            </a:r>
            <a:r>
              <a:rPr b="0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和</a:t>
            </a:r>
            <a:r>
              <a:rPr b="0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女</a:t>
            </a:r>
            <a:r>
              <a:rPr b="0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吗</a:t>
            </a:r>
            <a:r>
              <a:rPr b="0" lang="zh-CN" sz="4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老师说：你可能不认识，应为今天是开学第一课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101080" y="148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95640" y="43657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学生们说：对啊！我们已经是一年级小学生刚上课当然不认识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45964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883908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5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25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583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20"/>
                            </p:stCondLst>
                            <p:childTnLst>
                              <p:par>
                                <p:cTn id="24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92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11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"/>
                            </p:stCondLst>
                            <p:childTnLst>
                              <p:par>
                                <p:cTn id="37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2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07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9900"/>
                </a:solidFill>
                <a:latin typeface="Verdana"/>
                <a:ea typeface="楷体_GB2312"/>
              </a:rPr>
              <a:t>自</a:t>
            </a:r>
            <a:r>
              <a:rPr b="0" lang="zh-CN" sz="5000" spc="-1" strike="noStrike">
                <a:solidFill>
                  <a:srgbClr val="800000"/>
                </a:solidFill>
                <a:latin typeface="Verdana"/>
                <a:ea typeface="楷体_GB2312"/>
              </a:rPr>
              <a:t>我</a:t>
            </a:r>
            <a:r>
              <a:rPr b="0" lang="zh-CN" sz="5000" spc="-1" strike="noStrike">
                <a:solidFill>
                  <a:srgbClr val="ff66cc"/>
                </a:solidFill>
                <a:latin typeface="Verdana"/>
                <a:ea typeface="楷体_GB2312"/>
              </a:rPr>
              <a:t>介</a:t>
            </a:r>
            <a:r>
              <a:rPr b="0" lang="zh-CN" sz="5000" spc="-1" strike="noStrike">
                <a:solidFill>
                  <a:srgbClr val="cc0000"/>
                </a:solidFill>
                <a:latin typeface="Verdana"/>
                <a:ea typeface="楷体_GB2312"/>
              </a:rPr>
              <a:t>绍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大家好，我是小明（小明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的名字）。我是从……幼儿园来的，请大家多多关照。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2472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40"/>
                            </p:stCondLst>
                            <p:childTnLst>
                              <p:par>
                                <p:cTn id="52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4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993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136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Verdana"/>
                <a:ea typeface="楷体_GB2312"/>
              </a:rPr>
              <a:t>请你做一做（</a:t>
            </a:r>
            <a:r>
              <a:rPr b="0" lang="zh-CN" sz="56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r>
              <a:rPr b="0" lang="zh-CN" sz="56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1844640"/>
            <a:ext cx="792360" cy="1440000"/>
          </a:xfrm>
          <a:prstGeom prst="can">
            <a:avLst>
              <a:gd name="adj" fmla="val 25000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2205000"/>
            <a:ext cx="863640" cy="936720"/>
          </a:xfrm>
          <a:prstGeom prst="cube">
            <a:avLst>
              <a:gd name="adj" fmla="val 25000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349360"/>
            <a:ext cx="1440000" cy="720720"/>
          </a:xfrm>
          <a:prstGeom prst="cube">
            <a:avLst>
              <a:gd name="adj" fmla="val 25000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1989000"/>
            <a:ext cx="1224000" cy="1224000"/>
          </a:xfrm>
          <a:prstGeom prst="ellipse">
            <a:avLst/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8870600">
            <a:off x="5470200" y="1954440"/>
            <a:ext cx="363600" cy="1297080"/>
          </a:xfrm>
          <a:prstGeom prst="can">
            <a:avLst>
              <a:gd name="adj" fmla="val 11976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3500280"/>
            <a:ext cx="741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一共有（    ）</a:t>
            </a: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个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立体图形；一共有（    ）</a:t>
            </a: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种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立体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把右边的</a:t>
            </a: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两个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立体图形圈起来；把左边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的</a:t>
            </a: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第四个</a:t>
            </a:r>
            <a:r>
              <a:rPr b="0" lang="zh-CN" sz="2800" spc="-1" strike="noStrike">
                <a:solidFill>
                  <a:srgbClr val="cc0000"/>
                </a:solidFill>
                <a:latin typeface="Verdana"/>
              </a:rPr>
              <a:t>圈起来。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35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08720" y="342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1700280"/>
            <a:ext cx="287964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1700280"/>
            <a:ext cx="1440000" cy="1657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Verdana"/>
              </a:rPr>
              <a:t>请你做一做（</a:t>
            </a:r>
            <a:r>
              <a:rPr b="0" lang="zh-CN" sz="5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5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1844640"/>
            <a:ext cx="792360" cy="1440000"/>
          </a:xfrm>
          <a:prstGeom prst="can">
            <a:avLst>
              <a:gd name="adj" fmla="val 25000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2205000"/>
            <a:ext cx="863640" cy="936720"/>
          </a:xfrm>
          <a:prstGeom prst="cube">
            <a:avLst>
              <a:gd name="adj" fmla="val 25000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2349360"/>
            <a:ext cx="1440000" cy="720720"/>
          </a:xfrm>
          <a:prstGeom prst="cube">
            <a:avLst>
              <a:gd name="adj" fmla="val 25000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870600">
            <a:off x="5470200" y="1954440"/>
            <a:ext cx="363600" cy="1297080"/>
          </a:xfrm>
          <a:prstGeom prst="can">
            <a:avLst>
              <a:gd name="adj" fmla="val 11976"/>
            </a:avLst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1989000"/>
            <a:ext cx="1224000" cy="1224000"/>
          </a:xfrm>
          <a:prstGeom prst="ellipse">
            <a:avLst/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57336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3.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第五个是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把从右数的第三个涂上红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3500280"/>
            <a:ext cx="718920" cy="649440"/>
          </a:xfrm>
          <a:prstGeom prst="ellipse">
            <a:avLst/>
          </a:prstGeom>
          <a:solidFill>
            <a:srgbClr val="47b9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2349360"/>
            <a:ext cx="1440000" cy="719280"/>
          </a:xfrm>
          <a:prstGeom prst="cube">
            <a:avLst>
              <a:gd name="adj" fmla="val 25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16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000000"/>
                </a:solidFill>
                <a:latin typeface="Verdana"/>
                <a:ea typeface="楷体_GB2312"/>
              </a:rPr>
              <a:t>你都认识你的同学吗？</a:t>
            </a:r>
            <a:endParaRPr b="0" lang="en-US" sz="1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149720"/>
            <a:ext cx="4105080" cy="76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Verdana"/>
              </a:rPr>
              <a:t>我已经认识啦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553080" y="1052640"/>
            <a:ext cx="2590920" cy="1974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2:00:19Z</dcterms:created>
  <dc:creator>微软用户</dc:creator>
  <dc:description/>
  <dc:language>en-US</dc:language>
  <cp:lastModifiedBy>微软用户</cp:lastModifiedBy>
  <dcterms:modified xsi:type="dcterms:W3CDTF">2017-01-15T12:08:3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